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1E3B-26DF-401E-A6C1-9FDF039D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9419-7BCF-432E-A2E4-1235AF9E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922C-3819-4F35-B78E-042695A10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403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005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52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403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005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9E12-A00A-432E-B094-27BD0912F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73A3-1714-47A0-9B9D-6BA42745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7A87-7589-404F-8517-30145D6B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6071-3BB7-4213-BBA9-195C9E7C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EDD4-BFA8-4ABD-939C-7EE65F95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1FAB-81B8-4805-A523-567D7144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066680" y="152280"/>
            <a:ext cx="7793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55D9-56DC-46DA-B7FB-305CC9CB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0C4B-1914-4001-B7E9-D75E8E68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5A21-0FFD-47A2-8FC3-70D0FD0D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02AD-D36C-4B86-9C4A-132B7628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E97A-99E5-44E4-B513-BE8843FF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7053-2101-4DA1-BCC4-0CAFF180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72E5-49FA-4855-AC11-DE5F303D3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403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005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052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403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005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BB80-EE69-40A6-8617-556A8DC7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6161-FF44-4A84-96EC-1C3F3BAA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3C95-4CE9-4A0A-B632-AA4B49BD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5114-65D1-4E0A-8F81-F27022A3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152280"/>
            <a:ext cx="7793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A752-F27B-4A4A-8B2E-BB7EA388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1868-DB56-45F8-8879-B67DD060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5CAE-F275-44CF-B091-F0C6C110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E31A-BE2B-4B74-A20A-AE1CDD6C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228600"/>
            <a:ext cx="438120" cy="474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33520" y="228600"/>
            <a:ext cx="328320" cy="474840"/>
          </a:xfrm>
          <a:prstGeom prst="rect">
            <a:avLst/>
          </a:prstGeom>
          <a:gradFill rotWithShape="0">
            <a:gsLst>
              <a:gs pos="0">
                <a:srgbClr val="fef1c0">
                  <a:alpha val="13333"/>
                </a:srgbClr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38088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38088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09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22860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06632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169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277F-2B02-46CE-A1E4-7322C58C5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153280" y="6053040"/>
            <a:ext cx="990720" cy="80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50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3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1c16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69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E4D9-8B0D-41B9-B062-DB549F817057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c169e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enome Data Directo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9528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 Gilbert, gilbertd@indiana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791320" y="5181480"/>
            <a:ext cx="202248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ata Access Need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ble genome data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Page scraping and bulk files not en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Internet search &amp; retrieval of all genome objects distributed among many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Simple, flexible client program mode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Efficient for high volume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bjects; &gt;1 GB siz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rectories of Genome Data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ories are a necessary step for bio gr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road and shallow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rectories federat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narrow and deep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o-Data Access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S, Sequence Retrieval System;  Entrez ;  AceDB; Genome relational databases (Ensembl, FlyBase, WormBase) ; IBM DiscoveryLink; BioDAS ; BioMo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ory services for data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 onto access tools for common query/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DA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ture, efficient for high volumes, query distributed directories ; works well with bio-access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Servic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messages over Web ; wide industry support , standards are in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rectory compon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" y="1289160"/>
            <a:ext cx="8534520" cy="54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enome Directory Need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</a:t>
            </a: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existing techn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finding distribute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Efficient for mill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bjects, by the gigabyte and teraby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Que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tributed </a:t>
            </a: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across direct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collaborat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Sup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isting and new </a:t>
            </a: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bioinformatics data ac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elational dbs, object and XML dbs, SRS, Entrez, AceD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Simple cl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gram </a:t>
            </a: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metho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computable use of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le, </a:t>
            </a: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common sch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describing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Replicate direct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objects among bioinformatics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Peer-to-peer direct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collaborative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authentication and secu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data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rectory Standard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Grid Services Architechture (OG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AP based; query support for XML-SQL and Xquer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ccess project: http://www.ogsa-dai.org.u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weight Directory Access (LD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ust system for distributed search and retri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-centric, optimized for efficient read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, distributed and replicated in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 Sciences ID (LSID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tandard for bio-object naming, with LDAP and WebServices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y project web services reposi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rectory Tes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and test distributed access with LDAP and Web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S backend for efficient search/retrieval from GenBank, SwissProt/TrEMBL, LocusLink, Medline, many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&amp; fetch 20,000 to 1.2 million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DAP is ~10x faster than Web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in progress for Fly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rectory Tes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8183" t="11766" r="8183" b="11766"/>
          <a:stretch/>
        </p:blipFill>
        <p:spPr>
          <a:xfrm>
            <a:off x="304920" y="1152360"/>
            <a:ext cx="807696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enome Directory Issu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2680" y="5105520"/>
            <a:ext cx="73526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rectory tests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ttp://iubio.bio.indiana.edu/biogrid/directories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4T17:28:33Z</dcterms:created>
  <dc:creator>don gilbert</dc:creator>
  <dc:description/>
  <dc:language>en-US</dc:language>
  <cp:lastModifiedBy>don gilbert</cp:lastModifiedBy>
  <dcterms:modified xsi:type="dcterms:W3CDTF">2003-05-04T18:56:14Z</dcterms:modified>
  <cp:revision>6</cp:revision>
  <dc:subject/>
  <dc:title>Genome Data Directories</dc:title>
</cp:coreProperties>
</file>